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5B3AE-F75B-4442-9A40-882D46EC5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6E941-F970-42D8-BD2C-AF37A76DF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ECB01-33E6-4A43-8BC4-EC02A3564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EBF75-5BBA-40A3-87C5-FF44BC83F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265A8-4425-4B0A-B9F3-2BAFC1C81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8ED18-E010-4778-9A01-88E09D072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F681D-FB10-42F1-8B0D-89FBC7689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175B4-0F6C-4361-B333-9FC75B832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72E1B-9946-45EC-B4E9-EC3F87C53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5EF0D-7426-461C-8CD2-164793EBD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E308E-36EF-4DB4-9B77-F8EC24334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2278F-17A4-43DC-8D8C-48F5421E6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A4253-BD1C-4713-B3A3-29960D29E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D7154-D121-431F-8046-8F9CC473B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8910F-75DB-4129-9B36-AAC008D01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F586C-6470-4AEF-8B9F-514BA4100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58EF7-FA11-4766-B388-50442F6FF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C8A08-B537-48A9-AC81-99347D52B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53782-E20B-4D11-8490-CAB1810AF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532A6-D719-4E97-9897-ED5F0D23C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6BDD9-4AC9-4763-BD5D-6EDB2A48E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72048-1F4E-47AB-B0C5-AE192EC73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460C7-09A5-4516-9150-20E61D4D7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984EE-49C3-4C79-BA15-530CA1707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FACB-61A1-4FDD-8475-403ED7C5CD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5"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7"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8"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9"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0"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1"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C26A-3201-42FB-96E4-F7DA849814F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delicious.com/" TargetMode="External"/><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Delicious</a:t>
            </a:r>
            <a:endParaRPr b="0" lang="en-US" sz="54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nd other useful websit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dding a Bookmark</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ow click save.</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r new site has now been bookmarked and can be accessed by anyone who uses your accoun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haring the Information</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is a good idea to now send an email out to colleagues that you think can benefit from this new addition to Deliciou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Let them know the name of the new site, what it can be used for, and explain that you have added it to the Delicious accoun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Try It Out!!</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ow add a website that you feel can be used by other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f you do not know of any of hand search googl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teps</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nd a site</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new bookmark</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ype in the addres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dd a description</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dd tags</a:t>
            </a:r>
            <a:endParaRPr b="0" lang="en-US" sz="3200" spc="-1" strike="noStrike">
              <a:solidFill>
                <a:srgbClr val="2f1311"/>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mail colleague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nother Way to Find Sites</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fter each site in your account is a blue box with a number.</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is is the number of other Delicious users who have bookmark this site.</a:t>
            </a:r>
            <a:endParaRPr b="0" lang="en-US" sz="2800" spc="-1" strike="noStrike">
              <a:solidFill>
                <a:srgbClr val="2f1311"/>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lick that box and you will see all of the users and their accounts</a:t>
            </a:r>
            <a:endParaRPr b="0" lang="en-US" sz="2800" spc="-1" strike="noStrike">
              <a:solidFill>
                <a:srgbClr val="2f1311"/>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hances are if you have a particular site in common with them, they may have other site that would interest you.</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t>
            </a:r>
            <a:r>
              <a:rPr b="0" lang="en-US" sz="4000" spc="-1" strike="noStrike">
                <a:solidFill>
                  <a:srgbClr val="f7d47d"/>
                </a:solidFill>
                <a:latin typeface="Arial"/>
              </a:rPr>
              <a:t>Stealing Sites”</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Open one of the accounts that are visible from clicking the blue box.</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avigate their site the same way you navigate our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View some of site that look interesting.</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you find a useful one copy the addres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t>
            </a:r>
            <a:r>
              <a:rPr b="0" lang="en-US" sz="4000" spc="-1" strike="noStrike">
                <a:solidFill>
                  <a:srgbClr val="f7d47d"/>
                </a:solidFill>
                <a:latin typeface="Arial"/>
              </a:rPr>
              <a:t>Stealing Sites”</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can now add the site to our account using the same proces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stead of typing the address you can paste i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ry it!!!</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Visit some sites and let’s “Steal” a few useful sites that we come acros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Networking </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may find that some users have a wide variety of useful site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ather than add them all you can network the user.</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s is usually other educators or school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urrently we are networked with Willow Grove and Craig Mantin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Networking</a:t>
            </a:r>
            <a:endParaRPr b="0" lang="en-US" sz="40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can view the users we are networked with by clicking network on the top of our homepage.</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On the right hand side of the screen our networks are now visible.</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ow click WGM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can now navigate their sit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is Delicious</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licious is a social networking website that helps educators organize and share useful websit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dding Networks</a:t>
            </a: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Go to a users site, you can do this by click the blue box with the number.</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Now click the users name that you want to visit.</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On the top right hand side of the screen click add to my network.</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Now you will be asked to add to my network. Click yes.  This user has now been added to our network. You can easily visit in the future to find other useful site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Try It!!!</a:t>
            </a:r>
            <a:endParaRPr b="0" lang="en-US" sz="4000" spc="-1" strike="noStrike">
              <a:solidFill>
                <a:srgbClr val="f7d47d"/>
              </a:solidFill>
              <a:latin typeface="Arial"/>
            </a:endParaRPr>
          </a:p>
        </p:txBody>
      </p:sp>
      <p:sp>
        <p:nvSpPr>
          <p:cNvPr id="23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avigate through to view other user’s accounts.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you find an educator or someone who has useful sites, add them to our network.</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teps</a:t>
            </a:r>
            <a:endParaRPr b="0" lang="en-US" sz="4000" spc="-1" strike="noStrike">
              <a:solidFill>
                <a:srgbClr val="f7d47d"/>
              </a:solidFill>
              <a:latin typeface="Arial"/>
            </a:endParaRPr>
          </a:p>
        </p:txBody>
      </p:sp>
      <p:sp>
        <p:nvSpPr>
          <p:cNvPr id="23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blue number box</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user’s name</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heck out some of their site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f you want to add this users click add to my network in the upper right hand corner.</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ow click y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Visit Some of Our Sites</a:t>
            </a:r>
            <a:endParaRPr b="0" lang="en-US" sz="4000" spc="-1" strike="noStrike">
              <a:solidFill>
                <a:srgbClr val="f7d47d"/>
              </a:solidFill>
              <a:latin typeface="Arial"/>
            </a:endParaRPr>
          </a:p>
        </p:txBody>
      </p:sp>
      <p:sp>
        <p:nvSpPr>
          <p:cNvPr id="23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avigate through some of the jamesfarley site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termine if any of these sites are usefu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hare with others what you find.</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Create an Account</a:t>
            </a:r>
            <a:endParaRPr b="0" lang="en-US" sz="4000" spc="-1" strike="noStrike">
              <a:solidFill>
                <a:srgbClr val="f7d47d"/>
              </a:solidFill>
              <a:latin typeface="Arial"/>
            </a:endParaRPr>
          </a:p>
        </p:txBody>
      </p:sp>
      <p:sp>
        <p:nvSpPr>
          <p:cNvPr id="239" name=""/>
          <p:cNvSpPr txBox="1"/>
          <p:nvPr/>
        </p:nvSpPr>
        <p:spPr>
          <a:xfrm>
            <a:off x="263520" y="1598760"/>
            <a:ext cx="7386480" cy="4497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y Delicious</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hare what you have found to be helpfu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nd useful website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Keep all of your and you colleagues bookmarks in one place</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is easy to us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ogging in</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o to </a:t>
            </a:r>
            <a:r>
              <a:rPr b="0" lang="en-US" sz="3200" spc="-1" strike="noStrike" u="sng">
                <a:solidFill>
                  <a:srgbClr val="f0b854"/>
                </a:solidFill>
                <a:uFillTx/>
                <a:latin typeface="Arial"/>
                <a:hlinkClick r:id="rId2"/>
              </a:rPr>
              <a:t>www.delicious.com</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gn is as jamesfarley</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assword: jaf140</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ign in to Delicious</a:t>
            </a:r>
            <a:endParaRPr b="0" lang="en-US" sz="4000" spc="-1" strike="noStrike">
              <a:solidFill>
                <a:srgbClr val="f7d47d"/>
              </a:solidFill>
              <a:latin typeface="Arial"/>
            </a:endParaRPr>
          </a:p>
        </p:txBody>
      </p:sp>
      <p:pic>
        <p:nvPicPr>
          <p:cNvPr id="201" name="Picture 5" descr="2595240181_a3dfeac00d_m"/>
          <p:cNvPicPr/>
          <p:nvPr/>
        </p:nvPicPr>
        <p:blipFill>
          <a:blip r:embed="rId1"/>
          <a:stretch/>
        </p:blipFill>
        <p:spPr>
          <a:xfrm>
            <a:off x="1784520" y="1447920"/>
            <a:ext cx="441144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Navigating Delicious</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croll down the page to see what has been saved</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he page number to see more sight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on the website to vis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Navigating Delicious</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f you are looking for a specific subject or topic look at the tags on the right hand side of the screen.</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s will narrow your search.</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he topic you are interested it.</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ry i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dding a Bookmark</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 the upper right hand corner click save a new bookmark.</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 new screen will now pop up.</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ype or paste the address of the web site you wish to add.</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nex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dding a Bookmark</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 space labeled notes is available.</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ype a description of the website in the space.  </a:t>
            </a:r>
            <a:endParaRPr b="0" lang="en-US" sz="2800" spc="-1" strike="noStrike">
              <a:solidFill>
                <a:srgbClr val="2f1311"/>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ags is another space available.</a:t>
            </a:r>
            <a:endParaRPr b="0" lang="en-US" sz="2800" spc="-1" strike="noStrike">
              <a:solidFill>
                <a:srgbClr val="2f1311"/>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ype topics that this site is related to in this space.  Such as Math, ELA, Education, Photos.</a:t>
            </a:r>
            <a:endParaRPr b="0" lang="en-US" sz="2800" spc="-1" strike="noStrike">
              <a:solidFill>
                <a:srgbClr val="2f1311"/>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ou can add more than one tag just be sure to add a comma after each tag.</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02:12:40Z</dcterms:created>
  <dc:creator>lmadmin</dc:creator>
  <dc:description/>
  <dc:language>en-US</dc:language>
  <cp:lastModifiedBy>Kris Felicello</cp:lastModifiedBy>
  <dcterms:modified xsi:type="dcterms:W3CDTF">2010-08-01T18:27:26Z</dcterms:modified>
  <cp:revision>3</cp:revision>
  <dc:subject/>
  <dc:title>Delicious</dc:title>
</cp:coreProperties>
</file>